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F18C-E14F-4085-BF68-7EB68864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5D70-7F77-46BE-80A4-95BBB5AC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040C-BC48-4E4F-9C7A-EDA6DCD6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5767-B62A-4511-9E9B-450E4BDB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78BA-F40D-4BD1-A0B1-CA9ED8CE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97B2-9466-4EF1-8AA7-97B89226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5619-0E36-49BD-A988-BA9BBA1D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E079-3C3D-4C5C-A85E-3E76855B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9166-995F-49F2-93DC-9D739EE0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9EAF-7F7F-42C2-A05D-15014462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A4CB-E104-4531-B570-CD72EF31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9248-69D1-477E-A429-7DF76AAC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9810-3DA6-4EEF-800E-8ED08BFB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3155-E922-4918-8984-B6EEE8A9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AE7E-1326-4F33-BD90-6AEBFADB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BBAF-3658-4523-9993-5A23D9BA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2B3F-6CFB-4A2D-BBA2-FD9FECC4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8549A-387A-49C7-A72A-C15AA6E9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D337E-EA83-4F98-8BB4-B4EA0968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57E6F-DE16-4742-890C-5EE8BE61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08FB4-5212-49E8-B62F-11552DDB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13F87-2165-4183-971E-9D2DA0BD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35F8-4AD4-4C03-B941-CF31C616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D105E-CEB9-4805-9DFA-7154751F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1E149-8CC9-4928-A4DA-45CF033B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7485B-76C1-42D9-9104-659D1B6F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35C44-A979-461C-9403-BFE28154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E174C-A4EC-40B1-8CA6-D9D0113A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67A41-8EBD-4B08-82A4-5B651C2A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922F2-24B6-4504-A3E7-46586010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070528-687D-4941-AA54-5E743E18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CA7597-20E4-4483-AB8C-A03F29E6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A12B55-5A8F-4492-9DE3-5B74C572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6A9B-9BFC-4C2B-8156-A67609E1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1B25A7-DE1A-4632-9601-AB23C13A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F8AF96-C324-47A1-96FB-C1859DBD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95027B-F157-46B1-91CC-47E1C381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6C8211-4D65-455E-B7CD-CC80B6B6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E70EB1-0003-41C6-BB76-A55980E7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97D90F-973C-4CDB-9361-9D06C288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269ABD-6146-41F8-BF4D-AC08954E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C2D4A9-BCBC-4B6C-B2BC-9356E15B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EDA455-1BDE-4CEC-86FC-824E0CE3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9845B-5108-4612-A7C6-74467C3C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0F78-FB78-4842-9730-8DC3746D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32ADA-5723-46DA-A272-1C8F5E5B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7065F-152A-4CFF-AE47-EE66C531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A26EC-16AA-4510-A0A0-F8DF59ED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971A2-8648-4B19-97D9-CFAB7FEA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5AF4D-86EB-4E01-BD1A-EF930C81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3EACF-3D5C-421E-A261-EA22E3CB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83EE6-1CB5-45A7-83FC-BCBBC311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D94C6-0EB8-48EE-AD79-2D341A0C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44047-6A15-4720-9CC3-E9D20DE5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31EA8-D4CB-48E6-9994-6C6C1775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F220-C165-4EC7-BB0B-A7DB2CB3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D525D-F6D3-4ECE-9BB8-06943025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B3724-E56E-4496-AD19-24FA2A20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B95D3-B19F-4A9B-B390-53740139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B9A3F-D3CE-4F44-A217-5B67B3E3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72557-48DA-474F-885C-DA30AF69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D7CAF-0D1D-468D-BEEA-4A3C17C8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42CB8-0E3C-4CDA-B7EC-946F3FAD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F569C-3687-48CB-A99B-FB1C7272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1D9AE-8D21-4330-9ABE-76F13950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F30CC-563C-4731-B123-7B71CB04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B907-0011-4753-8FB7-114774EF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5DA46-142B-4F8A-9A2A-BB4898D0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CCA2B-DB63-441E-8E43-29265FBA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4F437-13A3-4B9F-95CE-DBA40766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75B2-1A13-440B-AF41-F016848F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D160-9397-473F-8448-33DF98A3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7604-92EF-4442-96B1-940D55986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5386-6CA0-475C-BF58-5B601E261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1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1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1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2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26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27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0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3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6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9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42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45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48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51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54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57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60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63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66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69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72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75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78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81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84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87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1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92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95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98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01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04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07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10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13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16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19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22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4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8AA1-35A0-4537-A8F1-23AF211C772F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88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0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92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3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94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9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0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1115-551D-4720-86FE-91EE584C3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4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9A1D-09CB-4442-8E4F-3B3070360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39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9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40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0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0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0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0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1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1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1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1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2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2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2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3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3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3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4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4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4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4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5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5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5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6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6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6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7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7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7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7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8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8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8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9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9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9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9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0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0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50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50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51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F4FB-08D2-49F4-857E-AA019EE1CB4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Climate Chang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571" name="Picture 7" descr="hsc4432l"/>
          <p:cNvPicPr/>
          <p:nvPr/>
        </p:nvPicPr>
        <p:blipFill>
          <a:blip r:embed="rId1"/>
          <a:stretch/>
        </p:blipFill>
        <p:spPr>
          <a:xfrm>
            <a:off x="1143000" y="1371600"/>
            <a:ext cx="7162920" cy="4417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s are able to live on Earth because of a similar effect to the Greenhouse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clouds, water vapour and gases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eenhouse Gases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idn’t absorb and hold the sun’s heat, Earth would be too hot during the day and very cold at n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all these gases building up are trapping too much heat close to Earth resulting in Global climate chang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ing energy and developing alternative energy sources would hel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ven if we take aggressive action now, we can’t completely prevent climate change because once carbon dioxide is in the atmosphere, it remains there for about 120 yea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e need to think of our future generations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5" descr="energy-savingtips"/>
          <p:cNvPicPr/>
          <p:nvPr/>
        </p:nvPicPr>
        <p:blipFill>
          <a:blip r:embed="rId1"/>
          <a:stretch/>
        </p:blipFill>
        <p:spPr>
          <a:xfrm>
            <a:off x="380880" y="171360"/>
            <a:ext cx="8534520" cy="641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5" descr="energy-saving-cartoon"/>
          <p:cNvPicPr/>
          <p:nvPr/>
        </p:nvPicPr>
        <p:blipFill>
          <a:blip r:embed="rId1"/>
          <a:stretch/>
        </p:blipFill>
        <p:spPr>
          <a:xfrm>
            <a:off x="1828800" y="533520"/>
            <a:ext cx="556272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Global Warming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arming trend caused by unnatural changes in the atmosphe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ther extremes: heat waves, hurricanes, droughts, flo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ning fossil fuels is a major cause of global warm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is scientific consensus that global warming is real, is caused by human activities, and presents serious challeng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bal warming is caused by the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reenhouse G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ing up and trapping heat in the Earth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mosphere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bon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oxi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om burning coal, oil and gas in power plants, cars, factories, et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than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eased from rice paddies, both ends of cows, rotting garbage in landfills, mining operations, and gas pipel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hlorofluorocarb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FC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lso causing ozone depletion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itrous oxi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om fertilizers and chemical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's average temperature has risen ab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degree F in the past 100 years and will rise another 3 to 10 degrees F in the next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. Summer heat waves in the Great Lakes region have already had pollution episodes and increased health risks (breathing problem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ons near the Arctic Oce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Hudson Bay are expect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much warmer wint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glaciers melting) but the Atlan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ons will change very litt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Picture 7" descr="ANd9GcQae3oLKTnKqSj50q7rVeoO2VOnhjd7ox7uNnnKtScAWIfeSyt_thnZWVlrAw"/>
          <p:cNvPicPr/>
          <p:nvPr/>
        </p:nvPicPr>
        <p:blipFill>
          <a:blip r:embed="rId1"/>
          <a:stretch/>
        </p:blipFill>
        <p:spPr>
          <a:xfrm>
            <a:off x="5943600" y="3809880"/>
            <a:ext cx="2743200" cy="2697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bal warming will have significant impacts on people and natu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emperatures continue to rise, precipitation will become more frequent in heavy downpou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an expect extreme wet and dry condition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8" name="Picture 5" descr="ANd9GcR-UTtXAN4PH7VOdb43lDCxqODWu4XmxPkoTerDOKwlZnb2ow9Vvw"/>
          <p:cNvPicPr/>
          <p:nvPr/>
        </p:nvPicPr>
        <p:blipFill>
          <a:blip r:embed="rId1"/>
          <a:stretch/>
        </p:blipFill>
        <p:spPr>
          <a:xfrm>
            <a:off x="1600200" y="2881440"/>
            <a:ext cx="5791320" cy="397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lant and animal species will migrate or disappear in response to changes in climate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580" name="Picture 5" descr="hsc4603l"/>
          <p:cNvPicPr/>
          <p:nvPr/>
        </p:nvPicPr>
        <p:blipFill>
          <a:blip r:embed="rId1"/>
          <a:stretch/>
        </p:blipFill>
        <p:spPr>
          <a:xfrm>
            <a:off x="1523880" y="1957320"/>
            <a:ext cx="5639040" cy="435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 level has already risen due to warming and is projected to rise much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people are under the mistaken impression that only if the polar ice caps melt will sea level ri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lting ice caps is one reason but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 reas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becau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ater expa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 it war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Picture 19" descr="cartoon_global_warm"/>
          <p:cNvPicPr/>
          <p:nvPr/>
        </p:nvPicPr>
        <p:blipFill>
          <a:blip r:embed="rId1"/>
          <a:stretch/>
        </p:blipFill>
        <p:spPr>
          <a:xfrm>
            <a:off x="3505320" y="304812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e0dc"/>
                </a:solidFill>
                <a:latin typeface="Arial"/>
              </a:rPr>
              <a:t>Greenhouse Effec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dde0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twave sunlight enters the atmosp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dde0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is absorbed by the ground and is re-radiated as heat or longwave radi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dde0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is captured by greenhouse gases and kept in the atmosphe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Picture 5" descr="greenhouseeffect2usethis"/>
          <p:cNvPicPr/>
          <p:nvPr/>
        </p:nvPicPr>
        <p:blipFill>
          <a:blip r:embed="rId1"/>
          <a:stretch/>
        </p:blipFill>
        <p:spPr>
          <a:xfrm>
            <a:off x="4800600" y="1600200"/>
            <a:ext cx="3886200" cy="31464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7" descr="greenhouse1"/>
          <p:cNvPicPr/>
          <p:nvPr/>
        </p:nvPicPr>
        <p:blipFill>
          <a:blip r:embed="rId2"/>
          <a:stretch/>
        </p:blipFill>
        <p:spPr>
          <a:xfrm>
            <a:off x="457200" y="1600200"/>
            <a:ext cx="4495680" cy="3111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ozone hole does not cause global wa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zone depletion is a different problem caused mainly by CFC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zone layer is only just beginning to recover, partly because these chemicals remain in the atmosphere for a long ti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8" name="Picture 5" descr="ANd9GcQfs2D9FGcUYzixyUYD83tR0oOpJQhNPhWPsJLSXPUvJdYGH8mO"/>
          <p:cNvPicPr/>
          <p:nvPr/>
        </p:nvPicPr>
        <p:blipFill>
          <a:blip r:embed="rId1"/>
          <a:stretch/>
        </p:blipFill>
        <p:spPr>
          <a:xfrm>
            <a:off x="1981080" y="2174760"/>
            <a:ext cx="5257800" cy="3262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02:57:25Z</dcterms:created>
  <dc:creator>Amanda</dc:creator>
  <dc:description/>
  <dc:language>en-US</dc:language>
  <cp:lastModifiedBy>Jason</cp:lastModifiedBy>
  <dcterms:modified xsi:type="dcterms:W3CDTF">2011-01-13T12:31:28Z</dcterms:modified>
  <cp:revision>25</cp:revision>
  <dc:subject/>
  <dc:title>Climate Change</dc:title>
</cp:coreProperties>
</file>